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15348"/>
        <c:axId val="62809837"/>
      </c:barChart>
      <c:catAx>
        <c:axId val="73115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09837"/>
        <c:crosses val="autoZero"/>
        <c:auto val="1"/>
        <c:lblAlgn val="ctr"/>
        <c:lblOffset val="100"/>
        <c:noMultiLvlLbl val="0"/>
      </c:catAx>
      <c:valAx>
        <c:axId val="628098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15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7A6-076D-43FC-B6D3-84897E71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577-59E9-4F2E-B981-832BD83B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F65-4CE4-4CE0-876F-FEA5169C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1F8-8648-4C91-8DEB-D855BFB1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E58-2FA6-4C54-8462-04295796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25AB-04C4-48C1-A607-EF61F11D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C1E-6D44-465A-9384-DF7CBCE0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261-F2B7-4D49-867C-CD23C99A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815-9B39-44E6-9D91-77860349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240-B2B4-4C8C-BA74-BEB9A817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D77-0B6B-493A-99F6-0A66046D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CD8-D24E-4850-8B12-B05E18B6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101B4-0C79-4A9E-9EA7-CB37C355C0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